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B46-2D6A-422F-B2EE-8A9F560A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378-CDAF-4032-8599-7E33DD2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0DC-3F5F-4A44-9324-D54D9A1A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54C-0489-441B-872A-5C0E609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56C-3040-432C-8EF3-A2E5CD76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B1F-B2E5-4070-8EA9-3F92DAF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4B3-9DBA-4B4F-BAC5-B30042A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43F-2A79-4D3F-8C06-064DC14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09-6024-4516-A74B-8F58904F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A70-056F-4322-B304-15ED69C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294-EFDA-4AB8-B5E1-BA1FFC0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975-0BC6-4BBB-BB46-E08B647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135-DF4E-4FED-A1F1-99043BDE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0:33:46Z</dcterms:modified>
  <cp:revision>3</cp:revision>
  <dc:subject/>
  <dc:title>Moon Shots</dc:title>
</cp:coreProperties>
</file>